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A29-9B29-4DC8-A804-8A70A021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01D-50F3-4C59-A748-9751DBD8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A8F-A37D-4097-9D0C-D5F6242D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312-4E92-4403-829C-B670950C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304-FF00-478B-B8E0-876F1F56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6A5C-BE32-44E3-8BC1-CC2E7C1E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3F4-D372-48B4-A8F9-C4CF96A1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1A7-F9E2-47E0-841A-D52B064F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078-746B-4746-BBE3-847034A2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0A9-A513-4590-AF3C-9A2599E9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38C-A2DA-4EA7-B390-9B05AE5F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280-449D-4CFB-BF72-E9528132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DE18-3F9C-45FF-BBB0-CDD30F2DBB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0PDoX1dUlFNvVkAxISjzbkF/SIG=126qblulk/EXP=1297203933/**http%3A//0.tqn.com/d/goindia/1/0/g/4/-/-/bodgay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BUDDH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447920"/>
            <a:ext cx="6553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0" y="4876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iddhartha traveled and taught until his death at the age of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80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http://images.realtravel.com/media/lg/f5/10/f510fdbb4a89790157e2f65ba3e0940e.jpg"/>
          <p:cNvPicPr/>
          <p:nvPr/>
        </p:nvPicPr>
        <p:blipFill>
          <a:blip r:embed="rId1"/>
          <a:stretch/>
        </p:blipFill>
        <p:spPr>
          <a:xfrm>
            <a:off x="2133720" y="4572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0" y="5029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eople followed the Buddha because his dharma freed the people from th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priest’s control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http://www.jillstanek.com/indian%20funeral%202.jpg"/>
          <p:cNvPicPr/>
          <p:nvPr/>
        </p:nvPicPr>
        <p:blipFill>
          <a:blip r:embed="rId1"/>
          <a:stretch/>
        </p:blipFill>
        <p:spPr>
          <a:xfrm>
            <a:off x="1752480" y="533520"/>
            <a:ext cx="5238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0" y="4648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Buddha did not accept th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caste system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at placed people in on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social group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for their life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181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070280" y="5791320"/>
            <a:ext cx="71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e taught that all people wer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equal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http://jessicabuchleitner.files.wordpress.com/2009/11/equality.jpg"/>
          <p:cNvPicPr/>
          <p:nvPr/>
        </p:nvPicPr>
        <p:blipFill>
          <a:blip r:embed="rId1"/>
          <a:stretch/>
        </p:blipFill>
        <p:spPr>
          <a:xfrm>
            <a:off x="685800" y="0"/>
            <a:ext cx="7556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0" y="4876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Buddha was against religious rituals in which </a:t>
            </a:r>
            <a:r>
              <a:rPr b="1" lang="en-US" sz="3600" spc="-1" strike="noStrike" u="sng">
                <a:solidFill>
                  <a:srgbClr val="009900"/>
                </a:solidFill>
                <a:uFillTx/>
                <a:latin typeface="Calibri"/>
              </a:rPr>
              <a:t>animals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were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acrifice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http://cache.daylife.com/imageserve/0bHs4In2767SC/610x.jpg"/>
          <p:cNvPicPr/>
          <p:nvPr/>
        </p:nvPicPr>
        <p:blipFill>
          <a:blip r:embed="rId1"/>
          <a:stretch/>
        </p:blipFill>
        <p:spPr>
          <a:xfrm>
            <a:off x="1219320" y="0"/>
            <a:ext cx="6629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0" y="4800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 his four Noble Truths, the Buddha explained why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suffering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occurs and how it can b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avoide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http://2.bp.blogspot.com/_Jo7lJoQhtjw/SJHynoqUv6I/AAAAAAAAA88/zytkbn4YgLs/s400/pain-map+alphachimp.com"/>
          <p:cNvPicPr/>
          <p:nvPr/>
        </p:nvPicPr>
        <p:blipFill>
          <a:blip r:embed="rId1"/>
          <a:stretch/>
        </p:blipFill>
        <p:spPr>
          <a:xfrm>
            <a:off x="1523880" y="0"/>
            <a:ext cx="5639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0" y="304920"/>
            <a:ext cx="91440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The Four Noble Truths 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experience suffering and s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ffering and sorrow are caused by people’s greed, hatred,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d igno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. We can be freed from suffering by overcoming its 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. People can overcome their greed, hatred, and ignorance by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acticing the Eightfold Pa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0" y="4343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Buddha’s teaching centered on how people should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think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ac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http://www.hindustanlink.com/festival/images/gautama-buddha.jpg"/>
          <p:cNvPicPr/>
          <p:nvPr/>
        </p:nvPicPr>
        <p:blipFill>
          <a:blip r:embed="rId1"/>
          <a:stretch/>
        </p:blipFill>
        <p:spPr>
          <a:xfrm>
            <a:off x="1676520" y="0"/>
            <a:ext cx="5562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0" y="4191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e believed in an in-between path called th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Middle Way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ich emphasized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moderation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not too much of anything and not too litt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" descr="http://farm2.static.flickr.com/1378/1230899182_54616bcc70.jpg"/>
          <p:cNvPicPr/>
          <p:nvPr/>
        </p:nvPicPr>
        <p:blipFill>
          <a:blip r:embed="rId1"/>
          <a:stretch/>
        </p:blipFill>
        <p:spPr>
          <a:xfrm>
            <a:off x="1600200" y="0"/>
            <a:ext cx="5943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2297880" y="0"/>
            <a:ext cx="36493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ightfold Path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ght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ght Resol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ght Spe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ght Con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ght Liveli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ght Eff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ght Mindfu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ght Med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0" y="5105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Buddha, a title meaning “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enlightened one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”, real name was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Siddhartha Guatama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http://www.viewzone.com/buddha.head.jpg"/>
          <p:cNvPicPr/>
          <p:nvPr/>
        </p:nvPicPr>
        <p:blipFill>
          <a:blip r:embed="rId1"/>
          <a:stretch/>
        </p:blipFill>
        <p:spPr>
          <a:xfrm>
            <a:off x="1219320" y="0"/>
            <a:ext cx="6667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0" y="4572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uddhism teaches a person’s good or bad deeds called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karma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travel with him or her into the next lif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2" descr="http://www.freewebs.com/karmaandmynameisearl/wheeloflife.jpg"/>
          <p:cNvPicPr/>
          <p:nvPr/>
        </p:nvPicPr>
        <p:blipFill>
          <a:blip r:embed="rId1"/>
          <a:stretch/>
        </p:blipFill>
        <p:spPr>
          <a:xfrm>
            <a:off x="1981080" y="0"/>
            <a:ext cx="51818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0" y="518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uddhists do not believe in a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soul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 Go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http://www.britsattheirbest.com/images/cr_blake_ancient_of_days_38.jpg"/>
          <p:cNvPicPr/>
          <p:nvPr/>
        </p:nvPicPr>
        <p:blipFill>
          <a:blip r:embed="rId1"/>
          <a:stretch/>
        </p:blipFill>
        <p:spPr>
          <a:xfrm>
            <a:off x="2590920" y="0"/>
            <a:ext cx="3619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364680" y="5257800"/>
            <a:ext cx="84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 Buddhist’s goal is to reach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enlightenmen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http://1.bp.blogspot.com/_Sui7ERPxZWw/S0TG4lEgfaI/AAAAAAAAACU/rTI-IAWGP20/s400/enlightenment.jpg"/>
          <p:cNvPicPr/>
          <p:nvPr/>
        </p:nvPicPr>
        <p:blipFill>
          <a:blip r:embed="rId1"/>
          <a:stretch/>
        </p:blipFill>
        <p:spPr>
          <a:xfrm>
            <a:off x="2286000" y="0"/>
            <a:ext cx="4419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0" y="4800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o reach this goal a Buddhist must give up all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desires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and overcom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ignorance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http://www.networknorwich.co.uk/Images/content/213/130054.jpg"/>
          <p:cNvPicPr/>
          <p:nvPr/>
        </p:nvPicPr>
        <p:blipFill>
          <a:blip r:embed="rId1"/>
          <a:stretch/>
        </p:blipFill>
        <p:spPr>
          <a:xfrm>
            <a:off x="1752480" y="609480"/>
            <a:ext cx="54104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0" y="4572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cusing one’s thinking,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meditation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is an important part of a Buddhists life and reaching enlighten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2" descr="http://www.stevenaitchison.co.uk/blog/meditation.jpg"/>
          <p:cNvPicPr/>
          <p:nvPr/>
        </p:nvPicPr>
        <p:blipFill>
          <a:blip r:embed="rId1"/>
          <a:stretch/>
        </p:blipFill>
        <p:spPr>
          <a:xfrm>
            <a:off x="1371600" y="380880"/>
            <a:ext cx="6172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0" y="5103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y 650, Buddhism extended to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China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Korea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Japan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Tibe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Burma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and other areas of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Southeast Asi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http://dharmastudy.net/images/buddhism_ma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091880" y="5791320"/>
            <a:ext cx="70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e lived in India from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563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483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B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2" descr="http://www.rbi.org.in/currency/museum/mpindan21.jpg"/>
          <p:cNvPicPr/>
          <p:nvPr/>
        </p:nvPicPr>
        <p:blipFill>
          <a:blip r:embed="rId1"/>
          <a:stretch/>
        </p:blipFill>
        <p:spPr>
          <a:xfrm>
            <a:off x="1143000" y="0"/>
            <a:ext cx="659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5410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iddhartha left his sheltered palace life and set out to search for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truth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http://dlibrary.acu.edu.au/staffhome/gehall/images/truth.gif"/>
          <p:cNvPicPr/>
          <p:nvPr/>
        </p:nvPicPr>
        <p:blipFill>
          <a:blip r:embed="rId1"/>
          <a:stretch/>
        </p:blipFill>
        <p:spPr>
          <a:xfrm>
            <a:off x="1752480" y="0"/>
            <a:ext cx="5715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0" y="5029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n his journeys, Siddhartha wore a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yellow robe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nd owned nothing but a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small bowl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https://my.qoop.com/store/Yali-Shi-69b4f06a86f792eba18ba5426459edf607f59b8a/Buddhist-Monk-by-Shi-Yali--asiastockimages-com-qpps_404466645452252.LG.jpg"/>
          <p:cNvPicPr/>
          <p:nvPr/>
        </p:nvPicPr>
        <p:blipFill>
          <a:blip r:embed="rId1"/>
          <a:stretch/>
        </p:blipFill>
        <p:spPr>
          <a:xfrm>
            <a:off x="1981080" y="0"/>
            <a:ext cx="47628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0" y="4038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o find truth, h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wandere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questione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and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meditate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http://www.stressproofyourlife.com/images/monk.jpg"/>
          <p:cNvPicPr/>
          <p:nvPr/>
        </p:nvPicPr>
        <p:blipFill>
          <a:blip r:embed="rId1"/>
          <a:stretch/>
        </p:blipFill>
        <p:spPr>
          <a:xfrm>
            <a:off x="1752480" y="609480"/>
            <a:ext cx="50292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472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n th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49</a:t>
            </a:r>
            <a:r>
              <a:rPr b="1" lang="en-US" sz="3600" spc="-1" strike="noStrike" u="sng" baseline="30000">
                <a:solidFill>
                  <a:srgbClr val="00b050"/>
                </a:solidFill>
                <a:uFillTx/>
                <a:latin typeface="Calibri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day of his journey, Siddhartha discovered the truth he sou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http://i5.photobucket.com/albums/y186/LuvLife1/thoughts.jpg"/>
          <p:cNvPicPr/>
          <p:nvPr/>
        </p:nvPicPr>
        <p:blipFill>
          <a:blip r:embed="rId1"/>
          <a:stretch/>
        </p:blipFill>
        <p:spPr>
          <a:xfrm>
            <a:off x="2133720" y="3049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0" y="5257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e had reached a height of understanding called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enlightenmen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http://www.buddhist-images.co.uk/buddhajpgs/sakyamunijune.jpg"/>
          <p:cNvPicPr/>
          <p:nvPr/>
        </p:nvPicPr>
        <p:blipFill>
          <a:blip r:embed="rId1"/>
          <a:stretch/>
        </p:blipFill>
        <p:spPr>
          <a:xfrm>
            <a:off x="2438280" y="380880"/>
            <a:ext cx="411480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0" y="5105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Buddha began to teach others th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dharma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his teachings or la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http://home.swipnet.se/gostaratna/Buddha18.jpg"/>
          <p:cNvPicPr/>
          <p:nvPr/>
        </p:nvPicPr>
        <p:blipFill>
          <a:blip r:embed="rId1"/>
          <a:stretch/>
        </p:blipFill>
        <p:spPr>
          <a:xfrm>
            <a:off x="1295280" y="0"/>
            <a:ext cx="6172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0:18:12Z</dcterms:created>
  <dc:creator>Current User</dc:creator>
  <dc:description/>
  <dc:language>en-US</dc:language>
  <cp:lastModifiedBy>gehadde</cp:lastModifiedBy>
  <dcterms:modified xsi:type="dcterms:W3CDTF">2012-02-07T14:59:43Z</dcterms:modified>
  <cp:revision>36</cp:revision>
  <dc:subject/>
  <dc:title>Slide 1</dc:title>
</cp:coreProperties>
</file>